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BE96E-4B6C-4883-9426-435C6E850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5D20-7881-4085-B365-3598517B2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C9DB2-224D-42ED-96CA-1EA9B75ED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C44DF-00A6-4026-96F4-701E7311F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9C6150-7780-4D87-8A81-3A0673070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4BDCFA-B2AB-4BA9-9D54-FAF3E67E2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6D4994-0FA6-4A1C-8042-01CDB4ED1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7BA472-7D8B-475D-B09B-B8C92EAFE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C7365D-2BE0-42DF-A5D5-B632B8F3B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348072-C43C-4059-9334-FB0E6DE54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D4B36B-6D3F-43A2-A255-1389E8722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41ED1-17BC-46CE-8B43-DC9EAB9EB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3CA3FC-5F80-49C2-B515-DEB94A78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A44559-2571-4119-9702-1A3BA82B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26E4E5-834E-4D53-9657-0D73A4679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CB72B57-120D-456B-B3BD-68DC65669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017E55-650D-44DB-87F8-76D8F6B191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A27B0-55A6-45F5-9AC3-D44179828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2DBB2-6643-495E-A4BF-509854F0F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5C6E8-9F45-48CD-A893-AF131B7F22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A09491-9103-4B13-B8AB-F5A097B1A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AC82C-81B0-4AC6-8BC9-CF82B76E8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020B9-DD07-44D1-8373-7149FBA8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C081CB-6C09-44A6-9156-2D4245E98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BFD0B-88C8-483F-8B3C-CBC8CEF3A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8B9A0-2541-4AD8-AE5D-2FEAFBB9B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FE716-A593-4E1A-AA03-4B0F42E3A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A353B5-828A-4C74-A5FF-6B8EB8225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19212-E042-48B8-BF32-FE0B89942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7D8729-0ADD-469F-A88E-8928D79E43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DF49836-0039-4EF7-9EDC-7CDCBE0FB79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0145A6E-64D6-4442-BD80-D37B088774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23265CD-023C-414A-86B0-BAB10682E2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FD95B-FEA8-4456-8D6F-C3CE6984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0A72453-DD56-4594-81A0-A9558D8633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FFE8460-DEA9-4632-BFAB-6DC00C05B9C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75D5613-170C-49F2-A25E-75095F4051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918EDC8-DB20-4E2B-8D2E-478993F44F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4089FC5-E3BD-4907-85C7-9D90F52576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213DC18-913D-4D8A-833A-507EECD8E4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F020EB2-716D-48C8-8841-97D0850ADE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C1D08EA-5F59-4D7E-A986-EB717E22327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CAD2BF3-29BB-4A2C-B31D-57BEC91391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6FC87-186A-4229-985D-C7B6CE81E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36EE-3272-4619-828B-ED77F242D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18C8-AB55-4F47-8E75-EB851E13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E118B-C0D8-471F-8AAD-B9B28E9CA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9EDFA-82AD-4A72-BE74-E6D8A42E6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8BB8-80C1-4695-B7D4-9EA56529D560}"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5FEAE-2F46-4BA8-994F-05D88F31BEC4}"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CC4A-F5F5-4626-9119-5F0C011EA2F4}"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1AA4-285F-43EF-B533-C9F96774B6C2}"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3" descr=""/>
          <p:cNvPicPr/>
          <p:nvPr/>
        </p:nvPicPr>
        <p:blipFill>
          <a:blip r:embed="rId1"/>
          <a:stretch/>
        </p:blipFill>
        <p:spPr>
          <a:xfrm>
            <a:off x="360360" y="1139760"/>
            <a:ext cx="8459640" cy="1981440"/>
          </a:xfrm>
          <a:prstGeom prst="rect">
            <a:avLst/>
          </a:prstGeom>
          <a:ln w="0">
            <a:noFill/>
          </a:ln>
        </p:spPr>
      </p:pic>
      <p:sp>
        <p:nvSpPr>
          <p:cNvPr id="171" name="TextBox 2"/>
          <p:cNvSpPr/>
          <p:nvPr/>
        </p:nvSpPr>
        <p:spPr>
          <a:xfrm>
            <a:off x="785880" y="3929040"/>
            <a:ext cx="71438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Arial"/>
              </a:rPr>
              <a:t>By Chloe Bur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1"/>
          <p:cNvSpPr/>
          <p:nvPr/>
        </p:nvSpPr>
        <p:spPr>
          <a:xfrm>
            <a:off x="1143000" y="785880"/>
            <a:ext cx="692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big circle on the ground to make it look like the building is on the water. After you do the circle colour it with one of the water colours.</a:t>
            </a:r>
            <a:endParaRPr b="0" lang="en-US" sz="1800" spc="-1" strike="noStrike">
              <a:solidFill>
                <a:srgbClr val="ffffff"/>
              </a:solidFill>
              <a:latin typeface="Arial"/>
            </a:endParaRPr>
          </a:p>
        </p:txBody>
      </p:sp>
      <p:pic>
        <p:nvPicPr>
          <p:cNvPr id="194" name="Picture 2" descr=""/>
          <p:cNvPicPr/>
          <p:nvPr/>
        </p:nvPicPr>
        <p:blipFill>
          <a:blip r:embed="rId1"/>
          <a:stretch/>
        </p:blipFill>
        <p:spPr>
          <a:xfrm>
            <a:off x="1428840" y="2214720"/>
            <a:ext cx="6149880" cy="38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1143000" y="642960"/>
            <a:ext cx="671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go to a birds eye view and from the short platform outside the door draw a long bridge going diagonally down across to the side of the circle of water. Paint it what ever wood you would like</a:t>
            </a:r>
            <a:endParaRPr b="0" lang="en-US" sz="1800" spc="-1" strike="noStrike">
              <a:solidFill>
                <a:srgbClr val="ffffff"/>
              </a:solidFill>
              <a:latin typeface="Arial"/>
            </a:endParaRPr>
          </a:p>
        </p:txBody>
      </p:sp>
      <p:pic>
        <p:nvPicPr>
          <p:cNvPr id="196" name="Picture 3" descr=""/>
          <p:cNvPicPr/>
          <p:nvPr/>
        </p:nvPicPr>
        <p:blipFill>
          <a:blip r:embed="rId1"/>
          <a:stretch/>
        </p:blipFill>
        <p:spPr>
          <a:xfrm>
            <a:off x="1357200" y="1928880"/>
            <a:ext cx="6207120" cy="38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1"/>
          <p:cNvSpPr/>
          <p:nvPr/>
        </p:nvSpPr>
        <p:spPr>
          <a:xfrm>
            <a:off x="714240" y="785880"/>
            <a:ext cx="721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want to make your house really cool then click on the file button and then 3D warehouse and a window will open. Type in the box trees and place as many trees, anywhere as you want.</a:t>
            </a:r>
            <a:endParaRPr b="0" lang="en-US" sz="1800" spc="-1" strike="noStrike">
              <a:solidFill>
                <a:srgbClr val="ffffff"/>
              </a:solidFill>
              <a:latin typeface="Arial"/>
            </a:endParaRPr>
          </a:p>
        </p:txBody>
      </p:sp>
      <p:pic>
        <p:nvPicPr>
          <p:cNvPr id="198" name="Picture 3" descr=""/>
          <p:cNvPicPr/>
          <p:nvPr/>
        </p:nvPicPr>
        <p:blipFill>
          <a:blip r:embed="rId1"/>
          <a:stretch/>
        </p:blipFill>
        <p:spPr>
          <a:xfrm>
            <a:off x="1714680" y="2357280"/>
            <a:ext cx="5135400" cy="321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285840" y="357120"/>
            <a:ext cx="850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lete the man because he might get in the way while you are constructing your house. Click the mouse in the top left corner of the tool bar and click the man so he is highlighted blue all over. Then click the delete button.</a:t>
            </a:r>
            <a:endParaRPr b="0" lang="en-US" sz="1800" spc="-1" strike="noStrike">
              <a:solidFill>
                <a:srgbClr val="ffffff"/>
              </a:solidFill>
              <a:latin typeface="Arial"/>
            </a:endParaRPr>
          </a:p>
        </p:txBody>
      </p:sp>
      <p:pic>
        <p:nvPicPr>
          <p:cNvPr id="173" name="Picture 2" descr=""/>
          <p:cNvPicPr/>
          <p:nvPr/>
        </p:nvPicPr>
        <p:blipFill>
          <a:blip r:embed="rId1"/>
          <a:srcRect l="12520" t="0" r="0" b="0"/>
          <a:stretch/>
        </p:blipFill>
        <p:spPr>
          <a:xfrm>
            <a:off x="1357200" y="1638360"/>
            <a:ext cx="5720040" cy="44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a:off x="1143000" y="50004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w draw a square about 12’ long, once you have drawn the square type in the bottom corner where there is a box called dimensions.</a:t>
            </a:r>
            <a:endParaRPr b="0" lang="en-US" sz="1800" spc="-1" strike="noStrike">
              <a:solidFill>
                <a:srgbClr val="ffffff"/>
              </a:solidFill>
              <a:latin typeface="Arial"/>
            </a:endParaRPr>
          </a:p>
        </p:txBody>
      </p:sp>
      <p:pic>
        <p:nvPicPr>
          <p:cNvPr id="175" name="Picture 2" descr=""/>
          <p:cNvPicPr/>
          <p:nvPr/>
        </p:nvPicPr>
        <p:blipFill>
          <a:blip r:embed="rId1"/>
          <a:srcRect l="11979" t="0" r="694" b="1517"/>
          <a:stretch/>
        </p:blipFill>
        <p:spPr>
          <a:xfrm>
            <a:off x="1785960" y="1665360"/>
            <a:ext cx="5288040" cy="426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500040" y="35712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e the push/pull tool and type in the dimensions box 8’ to make it 8’ tall. Then use the move tool and move it up about 6’ off the ground.</a:t>
            </a:r>
            <a:endParaRPr b="0" lang="en-US" sz="1800" spc="-1" strike="noStrike">
              <a:solidFill>
                <a:srgbClr val="ffffff"/>
              </a:solidFill>
              <a:latin typeface="Arial"/>
            </a:endParaRPr>
          </a:p>
        </p:txBody>
      </p:sp>
      <p:pic>
        <p:nvPicPr>
          <p:cNvPr id="177" name="Picture 2" descr=""/>
          <p:cNvPicPr/>
          <p:nvPr/>
        </p:nvPicPr>
        <p:blipFill>
          <a:blip r:embed="rId1"/>
          <a:srcRect l="11708" t="0" r="812" b="1710"/>
          <a:stretch/>
        </p:blipFill>
        <p:spPr>
          <a:xfrm>
            <a:off x="714240" y="1357200"/>
            <a:ext cx="4081680" cy="2874960"/>
          </a:xfrm>
          <a:prstGeom prst="rect">
            <a:avLst/>
          </a:prstGeom>
          <a:ln w="0">
            <a:noFill/>
          </a:ln>
        </p:spPr>
      </p:pic>
      <p:pic>
        <p:nvPicPr>
          <p:cNvPr id="178" name="Picture 3" descr=""/>
          <p:cNvPicPr/>
          <p:nvPr/>
        </p:nvPicPr>
        <p:blipFill>
          <a:blip r:embed="rId2"/>
          <a:srcRect l="11708" t="0" r="676" b="1299"/>
          <a:stretch/>
        </p:blipFill>
        <p:spPr>
          <a:xfrm>
            <a:off x="4429080" y="3429000"/>
            <a:ext cx="45180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428760" y="35712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orbit tool and then turn your building around you can see the bottom of your building. Use the rectangle tool to draw a rectangle on the bottom of your building about 3” wide. Do this on the all four sides of the building and then outside the door and then parallel with the rectangles outside the door</a:t>
            </a:r>
            <a:endParaRPr b="0" lang="en-US" sz="1800" spc="-1" strike="noStrike">
              <a:solidFill>
                <a:srgbClr val="ffffff"/>
              </a:solidFill>
              <a:latin typeface="Arial"/>
            </a:endParaRPr>
          </a:p>
        </p:txBody>
      </p:sp>
      <p:pic>
        <p:nvPicPr>
          <p:cNvPr id="180" name="Picture 2" descr=""/>
          <p:cNvPicPr/>
          <p:nvPr/>
        </p:nvPicPr>
        <p:blipFill>
          <a:blip r:embed="rId1"/>
          <a:srcRect l="12304" t="0" r="685" b="10001"/>
          <a:stretch/>
        </p:blipFill>
        <p:spPr>
          <a:xfrm>
            <a:off x="1071720" y="1643040"/>
            <a:ext cx="707220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428760" y="357120"/>
            <a:ext cx="828648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push/pull and pull the rectangles down and in the dimensions box type 6’ and they will move down 6’ and then they will be touching the ground. Do it to all the rectangles </a:t>
            </a:r>
            <a:endParaRPr b="0" lang="en-US" sz="1800" spc="-1" strike="noStrike">
              <a:solidFill>
                <a:srgbClr val="ffffff"/>
              </a:solidFill>
              <a:latin typeface="Arial"/>
            </a:endParaRPr>
          </a:p>
        </p:txBody>
      </p:sp>
      <p:pic>
        <p:nvPicPr>
          <p:cNvPr id="182" name="Picture 2" descr=""/>
          <p:cNvPicPr/>
          <p:nvPr/>
        </p:nvPicPr>
        <p:blipFill>
          <a:blip r:embed="rId1"/>
          <a:srcRect l="12207" t="0" r="782" b="10625"/>
          <a:stretch/>
        </p:blipFill>
        <p:spPr>
          <a:xfrm>
            <a:off x="1214280" y="1428840"/>
            <a:ext cx="7072560" cy="454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1"/>
          <p:cNvSpPr/>
          <p:nvPr/>
        </p:nvSpPr>
        <p:spPr>
          <a:xfrm>
            <a:off x="857160" y="428760"/>
            <a:ext cx="814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rectangle on the left of the door and type in the dimensions bow 11’. Turn around the building and on the back draw a rectangle about 4’ and then copy the window around the hole building.</a:t>
            </a:r>
            <a:endParaRPr b="0" lang="en-US" sz="1800" spc="-1" strike="noStrike">
              <a:solidFill>
                <a:srgbClr val="ffffff"/>
              </a:solidFill>
              <a:latin typeface="Arial"/>
            </a:endParaRPr>
          </a:p>
        </p:txBody>
      </p:sp>
      <p:pic>
        <p:nvPicPr>
          <p:cNvPr id="184" name="Picture 2" descr=""/>
          <p:cNvPicPr/>
          <p:nvPr/>
        </p:nvPicPr>
        <p:blipFill>
          <a:blip r:embed="rId1"/>
          <a:srcRect l="12207" t="0" r="782" b="10625"/>
          <a:stretch/>
        </p:blipFill>
        <p:spPr>
          <a:xfrm>
            <a:off x="357120" y="2071800"/>
            <a:ext cx="4005360" cy="2571480"/>
          </a:xfrm>
          <a:prstGeom prst="rect">
            <a:avLst/>
          </a:prstGeom>
          <a:ln w="0">
            <a:noFill/>
          </a:ln>
        </p:spPr>
      </p:pic>
      <p:pic>
        <p:nvPicPr>
          <p:cNvPr id="185" name="Picture 3" descr=""/>
          <p:cNvPicPr/>
          <p:nvPr/>
        </p:nvPicPr>
        <p:blipFill>
          <a:blip r:embed="rId2"/>
          <a:srcRect l="12207" t="0" r="1659" b="10625"/>
          <a:stretch/>
        </p:blipFill>
        <p:spPr>
          <a:xfrm>
            <a:off x="4357800" y="2571840"/>
            <a:ext cx="4503600" cy="292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571680" y="571680"/>
            <a:ext cx="792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line tool to draw 2 diagonal lines across the roof from one corner to the other. Use  the move tool and press down the up tool to pull the roof into a pyramid.</a:t>
            </a:r>
            <a:endParaRPr b="0" lang="en-US" sz="1800" spc="-1" strike="noStrike">
              <a:solidFill>
                <a:srgbClr val="ffffff"/>
              </a:solidFill>
              <a:latin typeface="Arial"/>
            </a:endParaRPr>
          </a:p>
        </p:txBody>
      </p:sp>
      <p:pic>
        <p:nvPicPr>
          <p:cNvPr id="187" name="Picture 7" descr=""/>
          <p:cNvPicPr/>
          <p:nvPr/>
        </p:nvPicPr>
        <p:blipFill>
          <a:blip r:embed="rId1"/>
          <a:srcRect l="12304" t="0" r="1562" b="10001"/>
          <a:stretch/>
        </p:blipFill>
        <p:spPr>
          <a:xfrm>
            <a:off x="785880" y="1571760"/>
            <a:ext cx="3828960" cy="2500200"/>
          </a:xfrm>
          <a:prstGeom prst="rect">
            <a:avLst/>
          </a:prstGeom>
          <a:ln w="0">
            <a:noFill/>
          </a:ln>
        </p:spPr>
      </p:pic>
      <p:pic>
        <p:nvPicPr>
          <p:cNvPr id="188" name="Picture 5" descr=""/>
          <p:cNvPicPr/>
          <p:nvPr/>
        </p:nvPicPr>
        <p:blipFill>
          <a:blip r:embed="rId2"/>
          <a:stretch/>
        </p:blipFill>
        <p:spPr>
          <a:xfrm>
            <a:off x="4643280" y="3357720"/>
            <a:ext cx="3849840" cy="24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2"/>
          <p:cNvSpPr/>
          <p:nvPr/>
        </p:nvSpPr>
        <p:spPr>
          <a:xfrm>
            <a:off x="857160" y="571680"/>
            <a:ext cx="6500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Box 3"/>
          <p:cNvSpPr/>
          <p:nvPr/>
        </p:nvSpPr>
        <p:spPr>
          <a:xfrm>
            <a:off x="1071720" y="857160"/>
            <a:ext cx="57862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TextBox 4"/>
          <p:cNvSpPr/>
          <p:nvPr/>
        </p:nvSpPr>
        <p:spPr>
          <a:xfrm>
            <a:off x="1357200" y="428760"/>
            <a:ext cx="55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colour your house whatever you would like. Once you have finished orbit around so you can see the bottom of your building and add weird shaped poles on the bottom.</a:t>
            </a:r>
            <a:endParaRPr b="0" lang="en-US" sz="1800" spc="-1" strike="noStrike">
              <a:solidFill>
                <a:srgbClr val="ffffff"/>
              </a:solidFill>
              <a:latin typeface="Arial"/>
            </a:endParaRPr>
          </a:p>
        </p:txBody>
      </p:sp>
      <p:pic>
        <p:nvPicPr>
          <p:cNvPr id="192" name="Picture 5" descr=""/>
          <p:cNvPicPr/>
          <p:nvPr/>
        </p:nvPicPr>
        <p:blipFill>
          <a:blip r:embed="rId1"/>
          <a:stretch/>
        </p:blipFill>
        <p:spPr>
          <a:xfrm>
            <a:off x="1214280" y="2071800"/>
            <a:ext cx="6478920" cy="40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02:36:17Z</dcterms:created>
  <dc:creator>Diocesan School for Girls</dc:creator>
  <dc:description/>
  <dc:language>en-US</dc:language>
  <cp:lastModifiedBy>Diocesan School for Girls</cp:lastModifiedBy>
  <dcterms:modified xsi:type="dcterms:W3CDTF">2009-09-04T00:10:54Z</dcterms:modified>
  <cp:revision>31</cp:revision>
  <dc:subject/>
  <dc:title>Slide 1</dc:title>
</cp:coreProperties>
</file>